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4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0CF-1D59-4F6F-A22A-16BA3C56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A63-EC1B-479B-AC78-E48DD25A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D23-E6F0-4EDC-842B-F9DCB5BB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139-8682-43F7-9833-0F8CA3E0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7CE-242C-427F-BAC4-B5DF662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5B4-0FCE-4B82-B928-FFC8CDF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D3B-2BA2-4E7D-9A7C-44E67B30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83F-E26F-461A-8C85-CCA45399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16D-FB27-41AA-8FFA-410D3AB7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619-7EB4-4E3F-9262-03813B1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EEA-E328-4697-9D1A-F7E1745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52B-483C-47C0-8D1E-6B4F0049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147-C064-407A-9626-D56DFCBF8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1F7B-EC1D-4627-AC06-B6E2E6486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духовно-нравственных ценностей на уроках русского языка и литера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Текст 2" descr=""/>
          <p:cNvPicPr/>
          <p:nvPr/>
        </p:nvPicPr>
        <p:blipFill>
          <a:blip r:embed="rId2"/>
          <a:stretch/>
        </p:blipFill>
        <p:spPr>
          <a:xfrm>
            <a:off x="536400" y="836640"/>
            <a:ext cx="7802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Текст 2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038480" cy="3317760"/>
          </a:xfrm>
          <a:prstGeom prst="rect">
            <a:avLst/>
          </a:prstGeom>
          <a:ln w="0">
            <a:noFill/>
          </a:ln>
        </p:spPr>
      </p:pic>
      <p:pic>
        <p:nvPicPr>
          <p:cNvPr id="59" name="Текст 2" descr=""/>
          <p:cNvPicPr/>
          <p:nvPr/>
        </p:nvPicPr>
        <p:blipFill>
          <a:blip r:embed="rId3"/>
          <a:stretch/>
        </p:blipFill>
        <p:spPr>
          <a:xfrm>
            <a:off x="5219640" y="1039680"/>
            <a:ext cx="3313080" cy="2414880"/>
          </a:xfrm>
          <a:prstGeom prst="rect">
            <a:avLst/>
          </a:prstGeom>
          <a:ln w="0">
            <a:noFill/>
          </a:ln>
        </p:spPr>
      </p:pic>
      <p:pic>
        <p:nvPicPr>
          <p:cNvPr id="60" name="Текст 2" descr=""/>
          <p:cNvPicPr/>
          <p:nvPr/>
        </p:nvPicPr>
        <p:blipFill>
          <a:blip r:embed="rId4"/>
          <a:stretch/>
        </p:blipFill>
        <p:spPr>
          <a:xfrm>
            <a:off x="5219640" y="36910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Текст 2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8022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усского человека духовность – это самосознание, напряжённый процесс «делания» собственной ду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2BF-8E7C-4C36-81C7-69A18D9F1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864-C5A4-425D-B95F-61BD1C832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духовно-нравственным воспитанием понимается формирование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равственных чувств (совести, долга, веры, ответственности, гражданственности, патриотизма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равственной позиции (способности к различению добра и зла, готовности к преодолению жизненных испытаний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равственного поведения (готовности служения людя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Г.Мерк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Живое слово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е возможности для саморе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российский конкур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казки Красивого Сердца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Легенда об одиноком Кам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классные мероприя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Текст 2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Текст 2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40388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Текст 2" descr=""/>
          <p:cNvPicPr/>
          <p:nvPr/>
        </p:nvPicPr>
        <p:blipFill>
          <a:blip r:embed="rId2"/>
          <a:stretch/>
        </p:blipFill>
        <p:spPr>
          <a:xfrm>
            <a:off x="973080" y="187164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53" name="Текст 2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185920" cy="2914920"/>
          </a:xfrm>
          <a:prstGeom prst="rect">
            <a:avLst/>
          </a:prstGeom>
          <a:ln w="0">
            <a:noFill/>
          </a:ln>
        </p:spPr>
      </p:pic>
      <p:pic>
        <p:nvPicPr>
          <p:cNvPr id="54" name="Текст 2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Текст 2" descr=""/>
          <p:cNvPicPr/>
          <p:nvPr/>
        </p:nvPicPr>
        <p:blipFill>
          <a:blip r:embed="rId2"/>
          <a:stretch/>
        </p:blipFill>
        <p:spPr>
          <a:xfrm>
            <a:off x="669960" y="765000"/>
            <a:ext cx="78026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1646280" y="765000"/>
            <a:ext cx="585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0:54:37Z</dcterms:created>
  <dc:creator>Александрова З.В. (Aida_Alex)</dc:creator>
  <dc:description>http://aida.ucoz.ru</dc:description>
  <dc:language>en-US</dc:language>
  <cp:lastModifiedBy>Admin</cp:lastModifiedBy>
  <dcterms:modified xsi:type="dcterms:W3CDTF">2016-12-03T09:27:13Z</dcterms:modified>
  <cp:revision>12</cp:revision>
  <dc:subject/>
  <dc:title>литература 2</dc:title>
</cp:coreProperties>
</file>